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6D7-2C32-4BEC-AE58-568C1FB5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FCC-6E7E-4FCE-B781-7E3EAD86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25-18D2-4D24-B287-E519D32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E44-398C-4365-8678-5BE2396B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B96-039A-4CE5-BD51-89F4859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1BE-ED51-4974-90CD-2D1FF520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D80-21C4-436A-B275-E3489D8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217-F1A6-4058-8EDA-FE9ED81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0C2-C4FF-4D41-80AF-1887BED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7B9-1C40-462E-8FB9-4E98DDD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EFC-CAA1-4DA2-B38B-118B5D9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133-2507-4EA3-B090-AF45CAC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155-1FF6-402F-9413-7D554AB266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A8C-8320-42AA-A151-D6CCE5E0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tillatte meldesystem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4BA-984D-4604-B128-F5573FD9E7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489E-D557-4A9E-9AE2-A636AA879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jennomsnitts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gjennomsnittshånd er en hånd som har en honnør av hver rang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va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vak hånd mangler en konge eller mer på å være like sterk som en gjennomsnittshå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r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terk hånd er minst en konge bedre enn en gjennomsnittshån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lang når den er på minst tre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Kort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kort når den er på høyst to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ECC-D60F-49E6-95FC-2B32893099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105D5-1052-4965-A1D2-D4F6094F32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nvensjonell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konvensjonell når den i følge makkeravtale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kan formidle en annen betydning en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En vilje til å spille i angitt benevnelse (eller den sist angitte benevnelse.)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Honnørstyrke i fargen.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kte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ekte når den ikke er konvensjonell 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(etter definisjonen ovenfor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Lang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lang når den er på minst 17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rt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kort når den er på høyst 16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Psykisk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psykisk når den er overlagt og grovt villedende i forhold til systemdeklarasjone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Semibalansert hånd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 hånd er semibalansert når den inneholder to dobbeltoner eller en singelton uten dobbelt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132-C462-45DE-BA31-1495058FA7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A6A54-A6B5-4877-BCD4-562478648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UM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Høyst uvanlig metode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990000"/>
                </a:solidFill>
                <a:latin typeface="Times New Roman"/>
              </a:rPr>
              <a:t>Et system tilhører kategorien HUM når det oppfyller minst ett av fem kriterier: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Pass i åpning viser eller kan inneholde en sterk hån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Et åpningsbud på entrinne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ære svakere enn pass i samme posisjon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ller inneholde en svak hånd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alternativt vise kort eller lang farg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nten lengde i en farge eller i en eller flere andre farger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B4E-F412-424C-A78E-546D1120EE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2BF49-A5AE-41BF-AA8D-83F4FB20A4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UK  (Høyst uvanlig konvensjon )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UK er konvensjon knytte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Åpningsbud fra og med 2 kløver til og med 3 spar, som kan vise eller inneholde hånd under gjennomsnitt og da ikke viser minst 4 kort i en bestemt far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) Meldingen viser alltid minst 4 kort i en kjent farge når det ikke er sterkt. Dersom meldingen ikke viser en kjent 4 kortsfarge, må den vise en hånd med en konge eller mer over gjennomsnit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) Åpning 2 i minor som viser minst 5 kort i en ukjent majorfarge, er ikke HUK</a:t>
            </a: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A40-4118-402B-983D-7D1917110E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6A1AB-9385-4636-A0AE-106D38B9C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66"/>
                </a:solidFill>
                <a:latin typeface="Times New Roman"/>
              </a:rPr>
              <a:t>HUK  (Høyst uvanlig konvensjon )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Innmelding som etter åpning på entrinnet i ekte farge ikke viser minst 4 kort i en kjent farge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990000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kte grandmelding med eller uten hold </a:t>
            </a: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Melding på hånd som kan være svak og da viser to farger der den ene kan være på mindre enn 4 kor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Psykiske meldinger som er beskyttet eller krevd av system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Ingen forsvar mot sterke, konvensjonelle åpningsbud, HUK eller HUM er  HUK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BB1-7511-4661-92CA-7B95E736AF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6B8AB-B328-4A36-B9C4-51215EA18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ruppering av meldesystem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Naturlige systemer 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røn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Naturlig når det på entrinnet bruker ekte åpningsmeldinger som viser minst tre kort i minor og fire i major, har ekte svar på en og totrinnet og har </a:t>
            </a:r>
            <a:br>
              <a:rPr sz="1800"/>
            </a:b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1grandåpning som viser en balansert eller semibalansert hån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onvensjoner som Toronto og Stenberg er tillatt. 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Minorsystemer    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låt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  Minorsystem når det baserer seg på 1 kløver eller 1 ruter eller begge som konvensjonelle åpningsmeldinger og åpningen 1 i major og åpningen 1 Grand , er som for naturlige syste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unstige systemer 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Rød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Kunstig når det ikke faller i kategoriene Naturlig eller Minor og ikke bruker meldinger som er definert som HUM eller HUK. 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Kategorien omfatter bl.a Vienna , relésystemer, systemer med tillatte flertydige åpningsmeldinger og systemer med poengsvar ).</a:t>
            </a: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HUM (Høyst Uvanlige Metoder)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ul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t system er HUM når det i oppsettet har prinsipper som er beskrevet under HUM eller HUK unntatt konvensjoner som er beskrevet i tillatte brune vedleg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D5A-820F-4B99-AB66-B1AFFF5BD4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327AE-5F31-48AF-9DA3-04FC4591A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enerelle regl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Arrangøren av en turnering bestemmer hvilke kategorier som er tillat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HUM kan bare tillates i lange lagkamp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Lag med spillende par som bruker HUM systemer, er alltid bortelag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M systemer tillates, skal systembeskrivelse sendes inn til arrangøren - fortrinnsvis på fil - for distribusjon til andre deltakere i turneringe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K tillates, skal et forslag til forsvar beskrives sammen med konvensjonen i det brune vedlegg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det </a:t>
            </a:r>
            <a:r>
              <a:rPr b="1" i="1" lang="nb-NO" sz="2000" spc="-1" strike="noStrike">
                <a:solidFill>
                  <a:srgbClr val="990000"/>
                </a:solidFill>
                <a:latin typeface="Times New Roman"/>
              </a:rPr>
              <a:t>ikke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i innbydelsen til turneringen er gjort særskilt vedtak, gjelder følgende: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ingelturneringer og andre "spesialturneringer"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Arrangøren kan fastsette et system som er felles for alle spillern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069-8101-4C24-8FED-F2816EB788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5665-0C9B-4132-A449-681776C13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"Åpne" turnering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generell innbydelse med klubbpoeng eller kretspoeng , SM damer 2. div, SM 4. og 5.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HUM og HUK er forbud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bundspoeng-turneringer etc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forbundspoeng, kretsmesterskap med kvalifisering til NM, NM finaler under Bridgefestivalen,  SM 3. divisjon og cup - rundene i NM for klubblag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nntil 2 HUK er tillatt.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oppturneringen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finalen NM for klubblag, finalerundene NM for Lag,  SM 1 divisjon, SM 2 divisjon og SM damer 1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lle kategorier er tillat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6CB-DFFE-4C8B-8489-3B1C6E0740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10630-AC36-4D25-8A44-0E38F6CCF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2:10:32Z</dcterms:created>
  <dc:creator>Per Nordland</dc:creator>
  <dc:description/>
  <dc:language>en-US</dc:language>
  <cp:lastModifiedBy>Per Nordland</cp:lastModifiedBy>
  <dcterms:modified xsi:type="dcterms:W3CDTF">2002-06-01T20:22:18Z</dcterms:modified>
  <cp:revision>9</cp:revision>
  <dc:subject/>
  <dc:title>Regler for tillatte meldesystemer</dc:title>
</cp:coreProperties>
</file>